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2DC3-C20D-4B97-9267-62D86986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C143-1AFA-4601-9743-2F73C96E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D4C6-00D1-4AC2-BBBE-7FFB7F5D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32A4-5968-41B6-AC81-58D60F90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0D61-8F51-4946-BFBF-809CAE3A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5412-033A-4C0D-BF28-45B980E1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2ED9-A41E-4355-A13D-D96B80B4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1AB9-F6E8-4F31-AF58-3FD2F8C8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F97F-E05D-4DA0-B426-2D260488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3CA1-362D-4F2E-AFC7-CD8BE2DC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A408-8D4A-47B3-89A7-E5A3F732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724F-130D-4AE3-9D21-96F33EC2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9F6D-3FBB-47BE-96D1-55E4203A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0CBF-7361-421D-A335-E397632E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8114-C66B-4EEF-9B2E-ACA1C382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EE75-95CD-4D49-996F-FCF41BDC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0C09-9C4C-409D-8BC2-4F131BEB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30D4-C10F-4CCA-84CE-5BE86CA7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6316-E9B2-419E-BC36-FACAE2C3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A9C2-48CF-47C1-BE51-BA7C2A33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7529-4A6C-478A-AA08-123A9D21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BCB4-24F6-4AB9-9D8C-1006E3BF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E893-C00F-4B67-A67A-4D940619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3BF6-B4B8-4FC1-B835-3A0960FB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151B-33F0-434B-A52E-1DC25ABC1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4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AF9D-CE9D-48DA-9552-209D72F864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838080" y="228600"/>
            <a:ext cx="7239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mmodore 64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elnet BBS Serv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295280" y="5181480"/>
            <a:ext cx="701064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if Bloomquist – Toronto, Can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WRAP Expo – Lombard, IL, USA    October 11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Object 8"/>
          <p:cNvGraphicFramePr/>
          <p:nvPr/>
        </p:nvGraphicFramePr>
        <p:xfrm>
          <a:off x="2590920" y="1981080"/>
          <a:ext cx="3429000" cy="32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81080"/>
                    <a:ext cx="3429000" cy="32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wnload server application+sour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.ica.net/~leifb/bbs/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BS Lists, hardware plans, etc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petscii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or More Inform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762120" y="556164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ank you!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verview and Goal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dore 64 BBS that anyone on the Internet can “Telnet”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 distance char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eed for a second phone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pecial software on C64 si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xisting BBS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8"/>
          <p:cNvSpPr/>
          <p:nvPr/>
        </p:nvSpPr>
        <p:spPr>
          <a:xfrm>
            <a:off x="4343400" y="3048120"/>
            <a:ext cx="1600200" cy="1218960"/>
          </a:xfrm>
          <a:prstGeom prst="rect">
            <a:avLst/>
          </a:prstGeom>
          <a:solidFill>
            <a:srgbClr val="2663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indows P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30"/>
          <p:cNvSpPr/>
          <p:nvPr/>
        </p:nvSpPr>
        <p:spPr>
          <a:xfrm>
            <a:off x="4191120" y="3276720"/>
            <a:ext cx="1981080" cy="106668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25"/>
          <p:cNvSpPr/>
          <p:nvPr/>
        </p:nvSpPr>
        <p:spPr>
          <a:xfrm>
            <a:off x="380880" y="3505320"/>
            <a:ext cx="7621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l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Oval 20"/>
          <p:cNvSpPr/>
          <p:nvPr/>
        </p:nvSpPr>
        <p:spPr>
          <a:xfrm flipV="1">
            <a:off x="1143000" y="3429000"/>
            <a:ext cx="1447920" cy="838080"/>
          </a:xfrm>
          <a:prstGeom prst="ellipse">
            <a:avLst/>
          </a:prstGeom>
          <a:solidFill>
            <a:srgbClr val="9ce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2590920" y="3581280"/>
            <a:ext cx="609480" cy="5335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S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34"/>
          <p:cNvSpPr/>
          <p:nvPr/>
        </p:nvSpPr>
        <p:spPr>
          <a:xfrm>
            <a:off x="3200400" y="3733920"/>
            <a:ext cx="1143000" cy="228600"/>
          </a:xfrm>
          <a:prstGeom prst="rect">
            <a:avLst/>
          </a:prstGeom>
          <a:solidFill>
            <a:srgbClr val="9ce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10BaseT Etherne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lock Diagra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4343400" y="3505320"/>
            <a:ext cx="45720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eln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rt 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11"/>
          <p:cNvSpPr/>
          <p:nvPr/>
        </p:nvSpPr>
        <p:spPr>
          <a:xfrm>
            <a:off x="4800600" y="3657600"/>
            <a:ext cx="685800" cy="380880"/>
          </a:xfrm>
          <a:prstGeom prst="leftRightArrow">
            <a:avLst>
              <a:gd name="adj1" fmla="val 50000"/>
              <a:gd name="adj2" fmla="val 358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23"/>
          <p:cNvSpPr/>
          <p:nvPr/>
        </p:nvSpPr>
        <p:spPr>
          <a:xfrm>
            <a:off x="5486400" y="3581280"/>
            <a:ext cx="457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33"/>
          <p:cNvSpPr/>
          <p:nvPr/>
        </p:nvSpPr>
        <p:spPr>
          <a:xfrm>
            <a:off x="5943600" y="3733920"/>
            <a:ext cx="1447920" cy="228600"/>
          </a:xfrm>
          <a:prstGeom prst="rect">
            <a:avLst/>
          </a:prstGeom>
          <a:solidFill>
            <a:srgbClr val="9ce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Null Modem Cabl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Group 32"/>
          <p:cNvGrpSpPr/>
          <p:nvPr/>
        </p:nvGrpSpPr>
        <p:grpSpPr>
          <a:xfrm>
            <a:off x="7391520" y="3581280"/>
            <a:ext cx="1371600" cy="1219320"/>
            <a:chOff x="7391520" y="3581280"/>
            <a:chExt cx="1371600" cy="1219320"/>
          </a:xfrm>
        </p:grpSpPr>
        <p:sp>
          <p:nvSpPr>
            <p:cNvPr id="159" name="Rectangle 21"/>
            <p:cNvSpPr/>
            <p:nvPr/>
          </p:nvSpPr>
          <p:spPr>
            <a:xfrm>
              <a:off x="7391520" y="4114800"/>
              <a:ext cx="1371600" cy="6858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mmodore 6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22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I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1011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Text Box 35"/>
          <p:cNvSpPr/>
          <p:nvPr/>
        </p:nvSpPr>
        <p:spPr>
          <a:xfrm>
            <a:off x="1909080" y="2133720"/>
            <a:ext cx="28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elnet BBS Server Progr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36"/>
          <p:cNvSpPr/>
          <p:nvPr/>
        </p:nvSpPr>
        <p:spPr>
          <a:xfrm>
            <a:off x="3352680" y="2438280"/>
            <a:ext cx="76212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erver Software…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ten in Visual Basic 6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sock” Object for TCP/I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Comm Object for COM 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s as background tas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sentially a “software rout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4"/>
          <a:stretch/>
        </p:blipFill>
        <p:spPr>
          <a:xfrm>
            <a:off x="4952880" y="1600200"/>
            <a:ext cx="3976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erver Softwa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ens for connections on TCP/IP Port 23 (Teln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onnection detected, “Rings” the B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tends to be a mod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arently forwards data between Telnet server and COM Por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gs Up” if Telnet Client disconn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nnects Telnet Client if BBS Hangs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est Syste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BBS 3.3 by Ed Parry (198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c IP:   209.151.141.59    Port 23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c64bbs.no-ip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since April 10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urpris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BBS isn’t Y2K Compli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ILLEGAL QUANTITY ERROR IN 31527”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Modem protocol upload/download works if “calling” from a real C64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700 callers to 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250 unique callers from all over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Next Step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time character translation (comple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CII &lt;-&gt; PETSC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s with more BBS progra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yes Modem e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 for gaming?  (Modem W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dicated hardwa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knowledg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ff Ledger (testing, sugges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 Zimmers (BBS program archi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hony Beckett (discuss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li Bloomquist (support, patience :-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8:37:01Z</dcterms:created>
  <dc:creator>Leif Bloomquist</dc:creator>
  <dc:description/>
  <dc:language>en-US</dc:language>
  <cp:lastModifiedBy>Leif</cp:lastModifiedBy>
  <dcterms:modified xsi:type="dcterms:W3CDTF">2012-11-05T05:16:49Z</dcterms:modified>
  <cp:revision>111</cp:revision>
  <dc:subject/>
  <dc:title>Commodore 64 Telnet BBS Server</dc:title>
</cp:coreProperties>
</file>